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A1D-568F-4A90-B653-1E4D3518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0AC9-00E7-4DA2-8F69-4E6CB7A3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538-CD10-46C2-9839-FBED49EC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85B-B33B-452E-87D7-4256C5B9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E05-220A-4108-8479-7E779556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F0C-4C52-41CB-9C5C-2067ECB5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D50-0A1A-4E5E-A209-58AA5A3F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C5C-D444-4105-BB24-9FC1282A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DD8-9698-4A05-B119-40350CA3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F26-C956-4452-8B67-95875768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42D-ECF1-4615-99BC-863B6747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AEA-A58E-470A-910E-98545D0E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0159-CCD4-46CA-9DF1-37E88AE39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24 de octubre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opósito # 15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continuamos la practica para el Examen 1 del vier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son los fon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as letras hay en el abecedar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n que partes de divide el alfabe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es son las vocales abiertas o fuer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es son las vocales cerradas o débi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son las silab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son las palabr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 Copia y resp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un dipton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un hia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un tripton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n qué se clasifican las palabras según el numero de sílab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n qué se clasifican las posiciones de sílab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el acen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os tipos de acentos h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es son los tipos de ace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- Divide e indica la posición de síla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ponsabl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 Distraí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lus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 Rí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 Sacap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- Divide y encierra la sílaba que tiene el ac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o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Escal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conomí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 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 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- Divide y clasifica según el numero de sílab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endari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g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za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niste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fet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set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ompen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4:57:42Z</dcterms:created>
  <dc:creator>Helen Zumaeta</dc:creator>
  <dc:description/>
  <dc:language>en-US</dc:language>
  <cp:lastModifiedBy>Helen Zumaeta</cp:lastModifiedBy>
  <dcterms:modified xsi:type="dcterms:W3CDTF">2011-10-24T04:58:50Z</dcterms:modified>
  <cp:revision>3</cp:revision>
  <dc:subject/>
  <dc:title>Me llamo _________ Clase 6NH La fecha es el 24 de octubre del 2011</dc:title>
</cp:coreProperties>
</file>